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162D6-6CB1-4EDC-9A3F-778E0DC5F07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7DC84-BFF1-4FBA-8A1E-BF6B820EE72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erifications (broad term comprising all  types of reviews, controls, assessments…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0DAC7-7732-4488-9BFB-282FC466603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A47-CB7B-44FC-96F0-6D233FF8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1F9-CB41-43D4-9031-D612D37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F7F-D4D0-417C-AE7E-91B9A3F8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25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58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FF2-23C2-46DA-9ADC-A0626022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01A-6F85-4456-AC86-F7FEA1F5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1E1-D1B3-4CE4-8123-6F818D9A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C6E-8947-48B6-9B98-2AD9DDA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5C2-290D-4C14-A101-52C464A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09600" y="-9864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707-B232-442C-8FD4-DCD28389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A90-7E1E-4463-9208-4796C58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58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F4A-F37B-45CC-824D-2856AF4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25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58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734-F55B-4908-BB46-3E21357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CH JU - Power Poin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9600" y="-9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25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94c8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94c8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4c8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FF080-DDE6-437E-ABF8-009190245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0C769-593E-49D9-95FB-D982C214C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CH JU - Power Point 0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7"/>
          <p:cNvSpPr/>
          <p:nvPr/>
        </p:nvSpPr>
        <p:spPr>
          <a:xfrm>
            <a:off x="206280" y="3073320"/>
            <a:ext cx="893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3366cc"/>
                </a:solidFill>
                <a:latin typeface="Arial"/>
                <a:ea typeface="Arial"/>
              </a:rPr>
              <a:t>Communication campa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  <a:ea typeface="Arial"/>
              </a:rPr>
              <a:t>FCH JU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Elena Climent  Vañ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1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	</a:t>
            </a:r>
            <a:r>
              <a:rPr b="0" lang="fr-BE" sz="1400" spc="-1" strike="noStrike">
                <a:solidFill>
                  <a:srgbClr val="194c84"/>
                </a:solidFill>
                <a:latin typeface="Arial"/>
                <a:ea typeface="Arial"/>
              </a:rPr>
              <a:t>FCH JU Internal Audi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a.The ex-ant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vie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2 of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1276200"/>
            <a:ext cx="91440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Key steps</a:t>
            </a:r>
            <a:r>
              <a:rPr b="1" lang="en-GB" sz="1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</a:rPr>
              <a:t>(deadlines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ordinator submits periodic report to FCH JU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+ 60 days of end reporting period)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echnical report (via ‘SESAM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inancial report (via ‘FORCE’ + paper original sign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FS (compliant with Form D), if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35532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completeness che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sends ‘Acknowledgment of receipt - AoR’ letter to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analysis of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requests for clarifications, if any </a:t>
            </a:r>
            <a:r>
              <a:rPr b="0" lang="en-GB" sz="1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(on-going amendments      )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suspension of time li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cc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ordinator submits requested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Respect dead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larity/completeness of repl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analysis of submitted clar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7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approval of report &amp; payment via coordinator </a:t>
            </a:r>
            <a:r>
              <a:rPr b="0" i="1" lang="en-GB" sz="1400" spc="-1" strike="noStrike">
                <a:solidFill>
                  <a:srgbClr val="33ccff"/>
                </a:solidFill>
                <a:latin typeface="Arial"/>
                <a:ea typeface="ヒラギノ角ゴ Pro W3"/>
              </a:rPr>
              <a:t>(within 105 days of ‘AoR’ letter (minus suspension perio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5332320" y="272268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3884760" y="5425920"/>
            <a:ext cx="345960" cy="34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requean\AppData\Local\Microsoft\Windows\Temporary Internet Files\Content.IE5\PN37ILQ6\MC900434750[1].png"/>
          <p:cNvPicPr/>
          <p:nvPr/>
        </p:nvPicPr>
        <p:blipFill>
          <a:blip r:embed="rId3"/>
          <a:stretch/>
        </p:blipFill>
        <p:spPr>
          <a:xfrm>
            <a:off x="6411960" y="451008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requean\AppData\Local\Microsoft\Windows\Temporary Internet Files\Content.IE5\PN37ILQ6\MC900434750[1].png"/>
          <p:cNvPicPr/>
          <p:nvPr/>
        </p:nvPicPr>
        <p:blipFill>
          <a:blip r:embed="rId4"/>
          <a:stretch/>
        </p:blipFill>
        <p:spPr>
          <a:xfrm>
            <a:off x="2644920" y="5253120"/>
            <a:ext cx="345960" cy="345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8623440" y="6593040"/>
            <a:ext cx="52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1 of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89000" y="1467000"/>
            <a:ext cx="89550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Fi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coordinator: PwC (NL), KPMG (DE), Littlejohn(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Local audit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Ex-post audi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oject Manager/ Financial Officer/Audi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Contac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: contact person (to be) appoi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Firm: audit coordinator is the single contact point with FCH 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Proje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8531280" y="4630680"/>
            <a:ext cx="344520" cy="3445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b.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2 of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47680" y="1222200"/>
            <a:ext cx="8829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Key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sends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Announcement Letter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(A/L) to benef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 appoints a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contact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Audit firm contacts beneficiary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to agree on date fieldwork &amp;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Start of audit field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imely preparation of documents is key for an efficient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Execution of 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audit field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Exit meeting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‘beneficiary – auditor’ to discuss audit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Draft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’s comments on Draft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e-final &amp; Final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sends ‘</a:t>
            </a:r>
            <a:r>
              <a:rPr b="1" lang="en-GB" sz="18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Letter of conclusion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’ to benef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endorses final audit report 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(i.e. adjustments on costs decl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3553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Implementation of audit resul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3427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Impact on FCH JU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3427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Liquidated damages (art. II. 24) &amp; financial penalties (art II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8200" indent="-34272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Extrapolation (if applic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buClr>
                <a:srgbClr val="3333ff"/>
              </a:buClr>
              <a:buFont typeface="Arial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532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7370640" y="3030480"/>
            <a:ext cx="344520" cy="344520"/>
          </a:xfrm>
          <a:prstGeom prst="rect">
            <a:avLst/>
          </a:prstGeom>
          <a:ln w="0">
            <a:noFill/>
          </a:ln>
        </p:spPr>
      </p:pic>
      <p:sp>
        <p:nvSpPr>
          <p:cNvPr id="114" name="Rounded Rectangle 7"/>
          <p:cNvSpPr/>
          <p:nvPr/>
        </p:nvSpPr>
        <p:spPr>
          <a:xfrm>
            <a:off x="1749600" y="6384960"/>
            <a:ext cx="1355400" cy="347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3 of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47680" y="1095480"/>
            <a:ext cx="882972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Extrapol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What?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</a:rPr>
              <a:t>Only errors of ‘systematic’ 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Non-audited cost claims may suffer from similar errors that need to be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But beneficiary can justify why other cost claims are NOT affected by the systematic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o reduce administrative burden on beneficiary &amp; JU linked with new aud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How?</a:t>
            </a: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 Beneficiary’s calculation based on 1 of the 3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Method 1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precise recalculation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of the costs affected by the systematic error in each of the non-audited cost claim </a:t>
            </a:r>
            <a:r>
              <a:rPr b="0" i="1" lang="en-GB" sz="1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 + supporting documen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Method 2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adjustment of the individual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cost category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affected by the systematic error by the application of a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flat rate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proposed by the FCH JU.</a:t>
            </a:r>
            <a:r>
              <a:rPr b="1" lang="en-GB" sz="1600" spc="-1" strike="noStrike" u="sng">
                <a:solidFill>
                  <a:srgbClr val="33cc33"/>
                </a:solidFill>
                <a:uFillTx/>
                <a:latin typeface="Arial"/>
                <a:ea typeface="ヒラギノ角ゴ Pro W3"/>
              </a:rPr>
              <a:t>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Method 3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: application of an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overall flat rate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correction to the </a:t>
            </a:r>
            <a:r>
              <a:rPr b="0" lang="en-GB" sz="1600" spc="-1" strike="noStrike" u="sng">
                <a:solidFill>
                  <a:srgbClr val="3333ff"/>
                </a:solidFill>
                <a:uFillTx/>
                <a:latin typeface="Arial"/>
                <a:ea typeface="ヒラギノ角ゴ Pro W3"/>
              </a:rPr>
              <a:t>total costs</a:t>
            </a: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 proposed by the FCH JU.</a:t>
            </a:r>
            <a:r>
              <a:rPr b="1" lang="en-GB" sz="1600" spc="-1" strike="noStrike" u="sng">
                <a:solidFill>
                  <a:srgbClr val="33cc33"/>
                </a:solidFill>
                <a:uFillTx/>
                <a:latin typeface="Arial"/>
                <a:ea typeface="ヒラギノ角ゴ Pro W3"/>
              </a:rPr>
              <a:t>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Methods 2 and 3: other flat rates to those proposed by the JU are also possible </a:t>
            </a:r>
            <a:r>
              <a:rPr b="0" i="1" lang="en-GB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 new audit paid by bene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656560" y="6595920"/>
            <a:ext cx="48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38440" y="4059360"/>
            <a:ext cx="5332320" cy="125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471760" y="5634000"/>
            <a:ext cx="5300640" cy="8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b. The ex-post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udit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4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47680" y="1095480"/>
            <a:ext cx="8829720" cy="54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Extrapol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proposes flat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y: recalculates (Method 1) or confirms flat rates (Methods 2 or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Audit firm: ‘desk ‘review’ of beneficiary’s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 u="sng">
                <a:solidFill>
                  <a:srgbClr val="3333ff"/>
                </a:solidFill>
                <a:uFillTx/>
                <a:latin typeface="Arial"/>
              </a:rPr>
              <a:t>Information to be provided by the beneficiary and ti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Projects not concerned by extrapolation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Method 1 (recalculations + supporting docs) / If methods 2 or 3 (confirm flat ra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The adjusting Form C (through FORCE and by post 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When? Within 30 calendar days of the date of the ‘Letter of Conclusio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8604360" y="6475320"/>
            <a:ext cx="48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14280" y="1424160"/>
            <a:ext cx="85154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CH JU control strategy: 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x-ante vs. Ex-post ve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FS (ex-ante) vs. Financial Audit (ex-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4.a.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ex-ante review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Key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4.b. The 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ex-post audi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Key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xtra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8575560" y="6192720"/>
            <a:ext cx="25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14280" y="1424160"/>
            <a:ext cx="88297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mbraces the whole ‘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Grant Management cycle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Cal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valuation of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Negotiation and Signature of Grant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Projec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vers two main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aspects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ound financial management </a:t>
            </a:r>
            <a:r>
              <a:rPr b="0" i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(i.e. economy, effectiveness, effici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Legality and Regularity </a:t>
            </a:r>
            <a:r>
              <a:rPr b="0" i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(i.e. in accordance with r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s a combination of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ex-ante and ex-pos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ve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Actors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nternal: FCH JU Operations / Finance /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ndependent experts (e.g. Mid Term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External auditors (CFS, Financial aud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ther bodies (Court of Auditors, OLAF, 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FCH JU control strategy – mai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1155600" y="2940120"/>
            <a:ext cx="2743200" cy="312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1155600" y="4051440"/>
            <a:ext cx="2651400" cy="32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2143080" y="5157720"/>
            <a:ext cx="4092480" cy="32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1585800" y="6012000"/>
            <a:ext cx="4586400" cy="32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128520" y="898560"/>
            <a:ext cx="1457280" cy="384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Focus of presentation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14280" y="1731960"/>
            <a:ext cx="851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2. Ex-ante vs. Ex-pos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4960" y="1641600"/>
          <a:ext cx="8074080" cy="4278240"/>
        </p:xfrm>
        <a:graphic>
          <a:graphicData uri="http://schemas.openxmlformats.org/drawingml/2006/table">
            <a:tbl>
              <a:tblPr/>
              <a:tblGrid>
                <a:gridCol w="1494000"/>
                <a:gridCol w="3473280"/>
                <a:gridCol w="3106800"/>
              </a:tblGrid>
              <a:tr h="441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Ex-ante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Ex-post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73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Befo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uthor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Afte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uthorise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p to 5 years after the end of the proje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y on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all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rans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ry out on a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sampl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ly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desk review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docu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On-the-spo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ecks at beneficiary's premi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/Sourc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periodic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 term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tificates methodology (CoM) / CoM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tificates on Financial Statements – C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ical audits or re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a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s detected are corrected, by the beneficiary (new Form C) or by the JU (ineligible costs),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befor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p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s detected are corrected </a:t>
                      </a:r>
                      <a:r>
                        <a:rPr b="1" lang="en-GB" sz="1400" spc="-1" strike="noStrike" u="sng">
                          <a:solidFill>
                            <a:srgbClr val="33cc33"/>
                          </a:solidFill>
                          <a:uFillTx/>
                          <a:latin typeface="Times New Roman"/>
                          <a:ea typeface="Times New Roman"/>
                        </a:rPr>
                        <a:t>afte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 transaction is approved and undue amounts are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ecove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ounded Rectangle 4"/>
          <p:cNvSpPr/>
          <p:nvPr/>
        </p:nvSpPr>
        <p:spPr>
          <a:xfrm>
            <a:off x="2340000" y="4711680"/>
            <a:ext cx="3132000" cy="31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5524560" y="4130640"/>
            <a:ext cx="141768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15"/>
          <p:cNvCxnSpPr/>
          <p:nvPr/>
        </p:nvCxnSpPr>
        <p:spPr>
          <a:xfrm>
            <a:off x="5202000" y="5032080"/>
            <a:ext cx="1080" cy="1065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18"/>
          <p:cNvCxnSpPr/>
          <p:nvPr/>
        </p:nvCxnSpPr>
        <p:spPr>
          <a:xfrm>
            <a:off x="6279840" y="4359240"/>
            <a:ext cx="1080" cy="1734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20"/>
          <p:cNvSpPr/>
          <p:nvPr/>
        </p:nvSpPr>
        <p:spPr>
          <a:xfrm>
            <a:off x="4734000" y="6108840"/>
            <a:ext cx="414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 u="sng">
                <a:solidFill>
                  <a:srgbClr val="3333ff"/>
                </a:solidFill>
                <a:uFillTx/>
                <a:latin typeface="Arial"/>
              </a:rPr>
              <a:t>Cost Eligibility</a:t>
            </a:r>
            <a:r>
              <a:rPr b="0" lang="en-GB" sz="1100" spc="-1" strike="noStrike">
                <a:solidFill>
                  <a:srgbClr val="3333ff"/>
                </a:solidFill>
                <a:latin typeface="Arial"/>
              </a:rPr>
              <a:t>: Costs charged to the project in accordance with FCH JU Grant Agre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190440" y="6205680"/>
            <a:ext cx="344520" cy="344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0"/>
          <p:cNvSpPr/>
          <p:nvPr/>
        </p:nvSpPr>
        <p:spPr>
          <a:xfrm>
            <a:off x="534960" y="6246720"/>
            <a:ext cx="387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 u="sng">
                <a:solidFill>
                  <a:srgbClr val="3333ff"/>
                </a:solidFill>
                <a:uFillTx/>
                <a:latin typeface="Arial"/>
              </a:rPr>
              <a:t>FAQs:</a:t>
            </a:r>
            <a:r>
              <a:rPr b="0" lang="en-GB" sz="1100" spc="-1" strike="noStrike">
                <a:solidFill>
                  <a:srgbClr val="3333ff"/>
                </a:solidFill>
                <a:latin typeface="Arial"/>
              </a:rPr>
              <a:t> Certificates issued by external auditors (CFS/CoM/CoMav) </a:t>
            </a:r>
            <a:r>
              <a:rPr b="0" lang="en-GB" sz="1100" spc="-1" strike="noStrike">
                <a:solidFill>
                  <a:srgbClr val="3333ff"/>
                </a:solidFill>
                <a:latin typeface="Wingdings"/>
                <a:ea typeface="Wingdings"/>
              </a:rPr>
              <a:t></a:t>
            </a:r>
            <a:r>
              <a:rPr b="0" lang="en-GB" sz="1100" spc="-1" strike="noStrike">
                <a:solidFill>
                  <a:srgbClr val="3333ff"/>
                </a:solidFill>
                <a:latin typeface="Arial"/>
              </a:rPr>
              <a:t> Jun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14280" y="1731960"/>
            <a:ext cx="851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3. CFS vs. Financial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41120" y="1522440"/>
          <a:ext cx="8915400" cy="4476600"/>
        </p:xfrm>
        <a:graphic>
          <a:graphicData uri="http://schemas.openxmlformats.org/drawingml/2006/table">
            <a:tbl>
              <a:tblPr/>
              <a:tblGrid>
                <a:gridCol w="860760"/>
                <a:gridCol w="4043160"/>
                <a:gridCol w="4011480"/>
              </a:tblGrid>
              <a:tr h="33336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FS’ (ex-an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 Audit’ (ex-p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504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gal Bas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lvl="1"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 Agreement (article II.4.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lvl="1"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 Agreement (article II.2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 above thresho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im payments: JU contribution &gt;= 325.0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payments: JU contribution &gt; 50.00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elected by FCH 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-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bjectiv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osts &amp; receipts declared in accordance with 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cop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greed Upon Proced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utpu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report of factual findings (incl. ToR &amp; t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Model (GA, Form 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bjectiv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Costs &amp; receipts declared in accordance with G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cope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Financial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utput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t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Model (agreed with audit fir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tor selected by benefici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pendent from the benefici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Qualify to carry out statutory audi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Special case: public bodies, secondary and higher education establishments and research organisation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ヒラギノ角ゴ Pro W3"/>
                        </a:rPr>
                        <a:t> Competent public officer  (legal capacity &amp; independent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CH JU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amework contract with 3 External Audit Firm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flict of Interest (‘CoI’)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waterhouseCoopers (Pw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61800" indent="-180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lejohn (POLAR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d by benefici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ed by the beneficiary as eligible costs </a:t>
                      </a:r>
                      <a:r>
                        <a:rPr b="1" lang="en-GB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mbursed by the JU at the corresponding funding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181080" indent="-181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46052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d by FCH 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ounded Rectangle 4"/>
          <p:cNvSpPr/>
          <p:nvPr/>
        </p:nvSpPr>
        <p:spPr>
          <a:xfrm>
            <a:off x="5419800" y="3684600"/>
            <a:ext cx="2344680" cy="18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5"/>
          <p:cNvSpPr/>
          <p:nvPr/>
        </p:nvSpPr>
        <p:spPr>
          <a:xfrm>
            <a:off x="1400040" y="3684600"/>
            <a:ext cx="1611360" cy="185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314280" y="6056280"/>
            <a:ext cx="788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Costs incurred for the CFS issued by the 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external auditors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 are eligible direct costs charged under the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Management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" activity in the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Subcontracting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" catego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However the costs for the CFS established by the 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competent public officers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 can be treated as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Other direct costs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" under the "</a:t>
            </a:r>
            <a:r>
              <a:rPr b="1" i="1" lang="en-US" sz="800" spc="-1" strike="noStrike">
                <a:solidFill>
                  <a:srgbClr val="3333ff"/>
                </a:solidFill>
                <a:latin typeface="Arial"/>
              </a:rPr>
              <a:t>Management" </a:t>
            </a:r>
            <a:r>
              <a:rPr b="0" i="1" lang="en-US" sz="800" spc="-1" strike="noStrike">
                <a:solidFill>
                  <a:srgbClr val="3333ff"/>
                </a:solidFill>
                <a:latin typeface="Arial"/>
              </a:rPr>
              <a:t>activity. Where it is the usual practice of the beneficiary to consider these costs as indirect costs, they cannot be charged as direct eligible cos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43000" y="1392120"/>
            <a:ext cx="882972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Model: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orm D </a:t>
            </a:r>
            <a:r>
              <a:rPr b="1" lang="en-GB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cently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Content: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3 documents </a:t>
            </a:r>
            <a:r>
              <a:rPr b="1" lang="en-GB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ndependent report of factual finding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igned by au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Terms of re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igned by beneficiary &amp; auditor and appended to auditor’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Table of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Completed by auditor and appended to auditor’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The independent repor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*)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Objective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Agreed procedures (no audit) on costs declared (Form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Results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How? List of exceptions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(e.g. no time records available, subcontracting not specified in Annex 1 GA, costs not allocated to project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mpact: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FCH JU uses this information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to draw conclusions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n eligibility of costs claimed and decide the amounts to be paid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CFS (ex-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6499080" y="226044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5786280" y="1758960"/>
            <a:ext cx="344520" cy="344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8624880" y="6410160"/>
            <a:ext cx="25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11240" y="1638360"/>
            <a:ext cx="896148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Model: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odel audit report agreed with the 3 external audit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uditor’s opinio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ummary of audit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Per cost catego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Work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Audit find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Systematic errors </a:t>
            </a:r>
            <a:r>
              <a:rPr b="1" lang="en-GB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for ‘extrapolatio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ther information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 (e.g. internal controls, differences with CFS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"/>
              </a:rPr>
              <a:t>The Auditor’s opinion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*)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Objective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 Audit </a:t>
            </a:r>
            <a:r>
              <a:rPr b="1" lang="en-GB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i="1" lang="en-GB" sz="14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‘In our opinion, except for…, the audited financial statements (i.e. Form C) are prepared , in all material aspects, in accordance with the grant agreement (i.e. properly reflect eligible costs, receipts (if any) and interest (if applicable) as well as apply the proper funding rates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 u="sng">
                <a:solidFill>
                  <a:srgbClr val="003399"/>
                </a:solidFill>
                <a:uFillTx/>
                <a:latin typeface="Arial"/>
                <a:ea typeface="ヒラギノ角ゴ Pro W3"/>
              </a:rPr>
              <a:t>Results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How?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Opinion + Summary of audit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Impact: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  <a:ea typeface="ヒラギノ角ゴ Pro W3"/>
              </a:rPr>
              <a:t>FCH JU endorses audit results &amp; recover undue amounts (if 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400040" y="227160"/>
            <a:ext cx="77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Financial audit (ex-p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requean\AppData\Local\Microsoft\Windows\Temporary Internet Files\Content.IE5\PN37ILQ6\MC900434750[1].png"/>
          <p:cNvPicPr/>
          <p:nvPr/>
        </p:nvPicPr>
        <p:blipFill>
          <a:blip r:embed="rId1"/>
          <a:stretch/>
        </p:blipFill>
        <p:spPr>
          <a:xfrm>
            <a:off x="5219640" y="390672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equean\AppData\Local\Microsoft\Windows\Temporary Internet Files\Content.IE5\PN37ILQ6\MC900434750[1].png"/>
          <p:cNvPicPr/>
          <p:nvPr/>
        </p:nvPicPr>
        <p:blipFill>
          <a:blip r:embed="rId2"/>
          <a:stretch/>
        </p:blipFill>
        <p:spPr>
          <a:xfrm>
            <a:off x="7397640" y="4189320"/>
            <a:ext cx="344520" cy="344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8686800" y="6443640"/>
            <a:ext cx="25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14280" y="1424160"/>
            <a:ext cx="85154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Th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4.a  Ex-ante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Arial"/>
              </a:rPr>
              <a:t>4.b  Ex-post audi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400040" y="227160"/>
            <a:ext cx="774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686800" y="6443640"/>
            <a:ext cx="25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400040" y="22716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.a. The ex-ant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view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1 of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14280" y="1801800"/>
            <a:ext cx="8829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Arial"/>
              </a:rPr>
              <a:t>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 (Project Manager &amp; Financial Offi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Arial"/>
              </a:rPr>
              <a:t>Contac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Consortium: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  <a:ea typeface="ヒラギノ角ゴ Pro W3"/>
              </a:rPr>
              <a:t>FCH JU: 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14280" y="3478320"/>
            <a:ext cx="86965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686800" y="6443640"/>
            <a:ext cx="25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49:52Z</dcterms:created>
  <dc:creator>Sabine Bauwens</dc:creator>
  <dc:description/>
  <dc:language>en-US</dc:language>
  <cp:lastModifiedBy>Szymczak Aleksandra ( FCH )</cp:lastModifiedBy>
  <cp:lastPrinted>2012-05-11T12:47:21Z</cp:lastPrinted>
  <dcterms:modified xsi:type="dcterms:W3CDTF">2012-06-13T12:17:03Z</dcterms:modified>
  <cp:revision>541</cp:revision>
  <dc:subject/>
  <dc:title>Slide 1</dc:title>
</cp:coreProperties>
</file>